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440" y="888480"/>
            <a:ext cx="7543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1659c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440" y="1557000"/>
            <a:ext cx="754380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62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440" y="4007520"/>
            <a:ext cx="754380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62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888480"/>
            <a:ext cx="7543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1659c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557000"/>
            <a:ext cx="368136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62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51120" y="1557000"/>
            <a:ext cx="368136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62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440" y="4007520"/>
            <a:ext cx="368136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62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51120" y="4007520"/>
            <a:ext cx="368136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62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440" y="888480"/>
            <a:ext cx="7543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1659c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440" y="1557000"/>
            <a:ext cx="242892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62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6040" y="1557000"/>
            <a:ext cx="242892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62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787000" y="1557000"/>
            <a:ext cx="242892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62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440" y="4007520"/>
            <a:ext cx="242892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62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6040" y="4007520"/>
            <a:ext cx="242892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62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787000" y="4007520"/>
            <a:ext cx="242892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62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888480"/>
            <a:ext cx="7543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1659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440" y="1557000"/>
            <a:ext cx="7543800" cy="46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440" y="888480"/>
            <a:ext cx="7543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1659c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557000"/>
            <a:ext cx="754380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62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440" y="888480"/>
            <a:ext cx="7543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1659c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440" y="1557000"/>
            <a:ext cx="368136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62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551120" y="1557000"/>
            <a:ext cx="368136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62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888480"/>
            <a:ext cx="7543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1659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440" y="981000"/>
            <a:ext cx="75438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888480"/>
            <a:ext cx="7543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1659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557000"/>
            <a:ext cx="368136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62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51120" y="1557000"/>
            <a:ext cx="368136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62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440" y="4007520"/>
            <a:ext cx="368136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62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888480"/>
            <a:ext cx="7543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1659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557000"/>
            <a:ext cx="368136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62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51120" y="1557000"/>
            <a:ext cx="368136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62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51120" y="4007520"/>
            <a:ext cx="368136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62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888480"/>
            <a:ext cx="7543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1659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557000"/>
            <a:ext cx="368136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62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51120" y="1557000"/>
            <a:ext cx="368136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62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440" y="4007520"/>
            <a:ext cx="754380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62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haakback"/>
          <p:cNvPicPr/>
          <p:nvPr/>
        </p:nvPicPr>
        <p:blipFill>
          <a:blip r:embed="rId2"/>
          <a:stretch/>
        </p:blipFill>
        <p:spPr>
          <a:xfrm>
            <a:off x="0" y="2556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85440" y="1557000"/>
            <a:ext cx="754380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62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1659c"/>
              </a:buClr>
              <a:buFont typeface="Tahoma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685440" y="981000"/>
            <a:ext cx="7543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1659c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1659c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09480" y="6248520"/>
            <a:ext cx="289584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000" spc="-1" strike="noStrike">
                <a:solidFill>
                  <a:srgbClr val="31659c"/>
                </a:solidFill>
                <a:latin typeface="Tahoma"/>
              </a:defRPr>
            </a:lvl1pPr>
          </a:lstStyle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000" spc="-1" strike="noStrike">
                <a:solidFill>
                  <a:srgbClr val="31659c"/>
                </a:solidFill>
                <a:latin typeface="Tahoma"/>
              </a:rPr>
              <a:t>©</a:t>
            </a:r>
            <a:r>
              <a:rPr b="1" lang="nl-NL" sz="800" spc="-1" strike="noStrike">
                <a:solidFill>
                  <a:srgbClr val="000000"/>
                </a:solidFill>
                <a:latin typeface="Tahoma"/>
              </a:rPr>
              <a:t>   ICSB Marketing en Strategie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" name="Picture 6" descr=""/>
          <p:cNvPicPr/>
          <p:nvPr/>
        </p:nvPicPr>
        <p:blipFill>
          <a:blip r:embed="rId3"/>
          <a:stretch/>
        </p:blipFill>
        <p:spPr>
          <a:xfrm>
            <a:off x="8547120" y="1031760"/>
            <a:ext cx="488880" cy="1676520"/>
          </a:xfrm>
          <a:prstGeom prst="rect">
            <a:avLst/>
          </a:prstGeom>
          <a:ln w="0">
            <a:noFill/>
          </a:ln>
        </p:spPr>
      </p:pic>
      <p:sp>
        <p:nvSpPr>
          <p:cNvPr id="5" name="Line 7"/>
          <p:cNvSpPr/>
          <p:nvPr/>
        </p:nvSpPr>
        <p:spPr>
          <a:xfrm flipV="1">
            <a:off x="8872560" y="2565360"/>
            <a:ext cx="1440" cy="3672000"/>
          </a:xfrm>
          <a:prstGeom prst="line">
            <a:avLst/>
          </a:prstGeom>
          <a:ln w="9360">
            <a:solidFill>
              <a:srgbClr val="884b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Line 8"/>
          <p:cNvSpPr/>
          <p:nvPr/>
        </p:nvSpPr>
        <p:spPr>
          <a:xfrm flipH="1">
            <a:off x="685440" y="6248520"/>
            <a:ext cx="7543800" cy="0"/>
          </a:xfrm>
          <a:prstGeom prst="line">
            <a:avLst/>
          </a:prstGeom>
          <a:ln w="57240">
            <a:solidFill>
              <a:srgbClr val="7797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" name="Picture 9" descr=""/>
          <p:cNvPicPr/>
          <p:nvPr/>
        </p:nvPicPr>
        <p:blipFill>
          <a:blip r:embed="rId4"/>
          <a:stretch/>
        </p:blipFill>
        <p:spPr>
          <a:xfrm>
            <a:off x="0" y="0"/>
            <a:ext cx="9151920" cy="685800"/>
          </a:xfrm>
          <a:prstGeom prst="rect">
            <a:avLst/>
          </a:prstGeom>
          <a:ln w="0">
            <a:noFill/>
          </a:ln>
        </p:spPr>
      </p:pic>
      <p:sp>
        <p:nvSpPr>
          <p:cNvPr id="8" name="Rectangle 10"/>
          <p:cNvSpPr/>
          <p:nvPr/>
        </p:nvSpPr>
        <p:spPr>
          <a:xfrm>
            <a:off x="0" y="676440"/>
            <a:ext cx="9144000" cy="16020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ijdelijke aanduiding voor voettekst 3"/>
          <p:cNvSpPr/>
          <p:nvPr/>
        </p:nvSpPr>
        <p:spPr>
          <a:xfrm>
            <a:off x="609480" y="6248520"/>
            <a:ext cx="28958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000" spc="-1" strike="noStrike">
                <a:solidFill>
                  <a:srgbClr val="31659c"/>
                </a:solidFill>
                <a:latin typeface="Tahoma"/>
              </a:rPr>
              <a:t>©</a:t>
            </a:r>
            <a:r>
              <a:rPr b="1" lang="nl-NL" sz="800" spc="-1" strike="noStrike">
                <a:solidFill>
                  <a:srgbClr val="000000"/>
                </a:solidFill>
                <a:latin typeface="Tahoma"/>
              </a:rPr>
              <a:t>   ICSB Marketing en Strategie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31659c"/>
                </a:solidFill>
                <a:latin typeface="Tahoma"/>
              </a:rPr>
              <a:t>De Brand Report Card</a:t>
            </a:r>
            <a:endParaRPr b="0" lang="en-US" sz="3600" spc="-1" strike="noStrike">
              <a:solidFill>
                <a:srgbClr val="31659c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7635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tIns="262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Figur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" name="Picture 4" descr=""/>
          <p:cNvPicPr/>
          <p:nvPr/>
        </p:nvPicPr>
        <p:blipFill>
          <a:blip r:embed="rId1"/>
          <a:stretch/>
        </p:blipFill>
        <p:spPr>
          <a:xfrm>
            <a:off x="5386320" y="1628640"/>
            <a:ext cx="2857680" cy="38386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ijdelijke aanduiding voor voettekst 3"/>
          <p:cNvSpPr/>
          <p:nvPr/>
        </p:nvSpPr>
        <p:spPr>
          <a:xfrm>
            <a:off x="609480" y="6248520"/>
            <a:ext cx="28958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000" spc="-1" strike="noStrike">
                <a:solidFill>
                  <a:srgbClr val="31659c"/>
                </a:solidFill>
                <a:latin typeface="Tahoma"/>
              </a:rPr>
              <a:t>©</a:t>
            </a:r>
            <a:r>
              <a:rPr b="1" lang="nl-NL" sz="800" spc="-1" strike="noStrike">
                <a:solidFill>
                  <a:srgbClr val="000000"/>
                </a:solidFill>
                <a:latin typeface="Tahoma"/>
              </a:rPr>
              <a:t>   ICSB Marketing en Strategie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440" y="1171440"/>
            <a:ext cx="75438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31659c"/>
                </a:solidFill>
                <a:latin typeface="Tahoma"/>
              </a:rPr>
              <a:t>De 20 factoren van de </a:t>
            </a:r>
            <a:br>
              <a:rPr sz="3600"/>
            </a:br>
            <a:r>
              <a:rPr b="0" lang="nl-NL" sz="3600" spc="-1" strike="noStrike">
                <a:solidFill>
                  <a:srgbClr val="31659c"/>
                </a:solidFill>
                <a:latin typeface="Tahoma"/>
              </a:rPr>
              <a:t>Brand Report Card</a:t>
            </a:r>
            <a:endParaRPr b="0" lang="en-US" sz="3600" spc="-1" strike="noStrike">
              <a:solidFill>
                <a:srgbClr val="31659c"/>
              </a:solidFill>
              <a:latin typeface="Tahoma"/>
            </a:endParaRPr>
          </a:p>
        </p:txBody>
      </p:sp>
      <p:pic>
        <p:nvPicPr>
          <p:cNvPr id="51" name="Picture 4" descr=""/>
          <p:cNvPicPr/>
          <p:nvPr/>
        </p:nvPicPr>
        <p:blipFill>
          <a:blip r:embed="rId1"/>
          <a:stretch/>
        </p:blipFill>
        <p:spPr>
          <a:xfrm>
            <a:off x="647640" y="2060640"/>
            <a:ext cx="784872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ijdelijke aanduiding voor voettekst 3"/>
          <p:cNvSpPr/>
          <p:nvPr/>
        </p:nvSpPr>
        <p:spPr>
          <a:xfrm>
            <a:off x="609480" y="6248520"/>
            <a:ext cx="28958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000" spc="-1" strike="noStrike">
                <a:solidFill>
                  <a:srgbClr val="31659c"/>
                </a:solidFill>
                <a:latin typeface="Tahoma"/>
              </a:rPr>
              <a:t>©</a:t>
            </a:r>
            <a:r>
              <a:rPr b="1" lang="nl-NL" sz="800" spc="-1" strike="noStrike">
                <a:solidFill>
                  <a:srgbClr val="000000"/>
                </a:solidFill>
                <a:latin typeface="Tahoma"/>
              </a:rPr>
              <a:t>   ICSB Marketing en Strategie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981000"/>
            <a:ext cx="75438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31659c"/>
                </a:solidFill>
                <a:latin typeface="Tahoma"/>
              </a:rPr>
              <a:t>Het brand strength model</a:t>
            </a:r>
            <a:endParaRPr b="0" lang="en-US" sz="3600" spc="-1" strike="noStrike">
              <a:solidFill>
                <a:srgbClr val="31659c"/>
              </a:solidFill>
              <a:latin typeface="Tahoma"/>
            </a:endParaRPr>
          </a:p>
        </p:txBody>
      </p:sp>
      <p:pic>
        <p:nvPicPr>
          <p:cNvPr id="54" name="Picture 4" descr=""/>
          <p:cNvPicPr/>
          <p:nvPr/>
        </p:nvPicPr>
        <p:blipFill>
          <a:blip r:embed="rId1"/>
          <a:stretch/>
        </p:blipFill>
        <p:spPr>
          <a:xfrm>
            <a:off x="1476360" y="1523880"/>
            <a:ext cx="4556160" cy="45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5T12:11:30Z</dcterms:created>
  <dc:creator>Y.Mandour</dc:creator>
  <dc:description/>
  <dc:language>en-US</dc:language>
  <cp:lastModifiedBy>Yousri Mandour</cp:lastModifiedBy>
  <dcterms:modified xsi:type="dcterms:W3CDTF">2012-10-12T11:46:22Z</dcterms:modified>
  <cp:revision>16</cp:revision>
  <dc:subject/>
  <dc:title>Ashridge-Missiemodel</dc:title>
</cp:coreProperties>
</file>