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Het SDP-model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Het SDP-model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647800"/>
            <a:ext cx="777744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Segmenteringscriteria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04800"/>
            <a:ext cx="724032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sociale milieus van Nederland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58920" y="1546200"/>
            <a:ext cx="5904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Resultaatgericht segmenteren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1528920"/>
            <a:ext cx="60595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positioneringsdiamant 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1547640"/>
            <a:ext cx="64832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05264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rie dimensies van de waardepropositie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5400" y="1932120"/>
            <a:ext cx="607860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.Mandour</cp:lastModifiedBy>
  <dcterms:modified xsi:type="dcterms:W3CDTF">2005-04-04T14:22:15Z</dcterms:modified>
  <cp:revision>17</cp:revision>
  <dc:subject/>
  <dc:title>Ashridge-Missiemodel</dc:title>
</cp:coreProperties>
</file>