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5438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440" y="4007520"/>
            <a:ext cx="75438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51120" y="155700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400752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51120" y="400752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2428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6040" y="1557000"/>
            <a:ext cx="2428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787000" y="1557000"/>
            <a:ext cx="2428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440" y="4007520"/>
            <a:ext cx="2428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6040" y="4007520"/>
            <a:ext cx="2428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787000" y="4007520"/>
            <a:ext cx="2428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440" y="1557000"/>
            <a:ext cx="754380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54380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681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51120" y="1557000"/>
            <a:ext cx="3681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981000"/>
            <a:ext cx="75438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1120" y="1557000"/>
            <a:ext cx="3681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440" y="400752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681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1120" y="155700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1120" y="400752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1120" y="155700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4007520"/>
            <a:ext cx="75438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2556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440" y="1557000"/>
            <a:ext cx="754380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1659c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9810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659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094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000" spc="-1" strike="noStrike">
                <a:solidFill>
                  <a:srgbClr val="3165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31659c"/>
                </a:solidFill>
                <a:latin typeface="Tahoma"/>
              </a:rPr>
              <a:t>©</a:t>
            </a:r>
            <a:r>
              <a:rPr b="1" lang="nl-NL" sz="800" spc="-1" strike="noStrike">
                <a:solidFill>
                  <a:srgbClr val="000000"/>
                </a:solidFill>
                <a:latin typeface="Tahoma"/>
              </a:rPr>
              <a:t>   ICSB Marketing en Strateg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547120" y="1031760"/>
            <a:ext cx="488880" cy="1676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8872560" y="2565360"/>
            <a:ext cx="1440" cy="3672000"/>
          </a:xfrm>
          <a:prstGeom prst="line">
            <a:avLst/>
          </a:prstGeom>
          <a:ln w="9360">
            <a:solidFill>
              <a:srgbClr val="884b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685440" y="6248520"/>
            <a:ext cx="7543800" cy="0"/>
          </a:xfrm>
          <a:prstGeom prst="line">
            <a:avLst/>
          </a:prstGeom>
          <a:ln w="57240">
            <a:solidFill>
              <a:srgbClr val="7797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51920" cy="6858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0" y="676440"/>
            <a:ext cx="9144000" cy="160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1659c"/>
                </a:solidFill>
                <a:latin typeface="Tahoma"/>
              </a:rPr>
              <a:t>Portfoliostrategieën:</a:t>
            </a:r>
            <a:br>
              <a:rPr sz="3600"/>
            </a:br>
            <a:r>
              <a:rPr b="0" lang="nl-NL" sz="3600" spc="-1" strike="noStrike">
                <a:solidFill>
                  <a:srgbClr val="31659c"/>
                </a:solidFill>
                <a:latin typeface="Tahoma"/>
              </a:rPr>
              <a:t>BCG- en GE-matrix</a:t>
            </a: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35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Figu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86320" y="1628640"/>
            <a:ext cx="2857680" cy="3838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1659c"/>
                </a:solidFill>
                <a:latin typeface="Tahoma"/>
              </a:rPr>
              <a:t>Factoren scoren</a:t>
            </a: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2328840"/>
            <a:ext cx="792000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1659c"/>
                </a:solidFill>
                <a:latin typeface="Tahoma"/>
              </a:rPr>
              <a:t>Bepaal de marktaantrekkelijkheid</a:t>
            </a: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0920" y="2224080"/>
            <a:ext cx="813744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1659c"/>
                </a:solidFill>
                <a:latin typeface="Tahoma"/>
              </a:rPr>
              <a:t>Bepaal de bedrijfssterkte</a:t>
            </a: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76360" y="1662120"/>
            <a:ext cx="561672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1659c"/>
                </a:solidFill>
                <a:latin typeface="Tahoma"/>
              </a:rPr>
              <a:t>De strategieën van de GE-Matrix</a:t>
            </a: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5438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1659c"/>
                </a:solidFill>
                <a:latin typeface="Tahoma"/>
              </a:rPr>
              <a:t>DE BCG-matrix</a:t>
            </a: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71640" y="1436760"/>
            <a:ext cx="64198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17144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1659c"/>
                </a:solidFill>
                <a:latin typeface="Tahoma"/>
              </a:rPr>
              <a:t>De generieke strategieën van de BCG-matrix</a:t>
            </a: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1886040"/>
            <a:ext cx="556236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1659c"/>
                </a:solidFill>
                <a:latin typeface="Tahoma"/>
              </a:rPr>
              <a:t>“</a:t>
            </a:r>
            <a:r>
              <a:rPr b="0" lang="nl-NL" sz="3600" spc="-1" strike="noStrike">
                <a:solidFill>
                  <a:srgbClr val="31659c"/>
                </a:solidFill>
                <a:latin typeface="Tahoma"/>
              </a:rPr>
              <a:t>Milking your cash cow”</a:t>
            </a: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32000" y="1514520"/>
            <a:ext cx="62118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1659c"/>
                </a:solidFill>
                <a:latin typeface="Tahoma"/>
              </a:rPr>
              <a:t>“</a:t>
            </a:r>
            <a:r>
              <a:rPr b="0" lang="nl-NL" sz="3600" spc="-1" strike="noStrike">
                <a:solidFill>
                  <a:srgbClr val="31659c"/>
                </a:solidFill>
                <a:latin typeface="Tahoma"/>
              </a:rPr>
              <a:t>Overbemelken” van de cash cow</a:t>
            </a: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03280" y="1438200"/>
            <a:ext cx="553104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1659c"/>
                </a:solidFill>
                <a:latin typeface="Tahoma"/>
              </a:rPr>
              <a:t>De Share Momentum-grafiek</a:t>
            </a: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284880" cy="45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1659c"/>
                </a:solidFill>
                <a:latin typeface="Tahoma"/>
              </a:rPr>
              <a:t>De GE-Matrix</a:t>
            </a: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4360" y="1492200"/>
            <a:ext cx="74167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1659c"/>
                </a:solidFill>
                <a:latin typeface="Tahoma"/>
              </a:rPr>
              <a:t>Uitleg bij de GE-Matrix</a:t>
            </a: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360" y="2762280"/>
            <a:ext cx="820728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1659c"/>
                </a:solidFill>
                <a:latin typeface="Tahoma"/>
              </a:rPr>
              <a:t>Waarde toekennen</a:t>
            </a: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03280" y="2252520"/>
            <a:ext cx="540072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2:11:30Z</dcterms:created>
  <dc:creator>Y.Mandour</dc:creator>
  <dc:description/>
  <dc:language>en-US</dc:language>
  <cp:lastModifiedBy>Y.Mandour</cp:lastModifiedBy>
  <dcterms:modified xsi:type="dcterms:W3CDTF">2005-04-04T13:57:03Z</dcterms:modified>
  <cp:revision>17</cp:revision>
  <dc:subject/>
  <dc:title>Ashridge-Missiemodel</dc:title>
</cp:coreProperties>
</file>