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543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4007520"/>
            <a:ext cx="7543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5112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6040" y="155700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87000" y="155700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400752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6040" y="400752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87000" y="400752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54380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543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981000"/>
            <a:ext cx="7543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112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007520"/>
            <a:ext cx="7543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2556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557000"/>
            <a:ext cx="7543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659c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659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94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000" spc="-1" strike="noStrike">
                <a:solidFill>
                  <a:srgbClr val="3165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31659c"/>
                </a:solidFill>
                <a:latin typeface="Tahoma"/>
              </a:rPr>
              <a:t>©</a:t>
            </a:r>
            <a:r>
              <a:rPr b="1" lang="nl-NL" sz="800" spc="-1" strike="noStrike">
                <a:solidFill>
                  <a:srgbClr val="000000"/>
                </a:solidFill>
                <a:latin typeface="Tahoma"/>
              </a:rPr>
              <a:t>   ICSB Marketing en Strateg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547120" y="1031760"/>
            <a:ext cx="488880" cy="1676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8872560" y="2565360"/>
            <a:ext cx="1440" cy="3672000"/>
          </a:xfrm>
          <a:prstGeom prst="line">
            <a:avLst/>
          </a:prstGeom>
          <a:ln w="9360">
            <a:solidFill>
              <a:srgbClr val="884b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685440" y="6248520"/>
            <a:ext cx="7543800" cy="0"/>
          </a:xfrm>
          <a:prstGeom prst="line">
            <a:avLst/>
          </a:prstGeom>
          <a:ln w="57240">
            <a:solidFill>
              <a:srgbClr val="7797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51920" cy="6858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676440"/>
            <a:ext cx="9144000" cy="160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De SWOT-analyse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35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Fig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86320" y="1628640"/>
            <a:ext cx="2857680" cy="38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17144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Verkeerd geplaatste elementen in </a:t>
            </a:r>
            <a:br>
              <a:rPr sz="3600"/>
            </a:b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een SWOT-analyse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417080" cy="34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7144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Correcte en verkeerde sterkten, zwakten, kansen en bedreigingen 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14400" y="2008080"/>
            <a:ext cx="54943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17144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Beoordelingstabel voor </a:t>
            </a:r>
            <a:br>
              <a:rPr sz="3600"/>
            </a:b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sterkten en zwakten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2671920"/>
            <a:ext cx="806436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De confrontatiematrix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2251080"/>
            <a:ext cx="75438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Drie belangrijke issues per kolom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1508040"/>
            <a:ext cx="604692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12193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Formuleren van de strategische vraag 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3880" y="2039760"/>
            <a:ext cx="53784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2:11:30Z</dcterms:created>
  <dc:creator>Y.Mandour</dc:creator>
  <dc:description/>
  <dc:language>en-US</dc:language>
  <cp:lastModifiedBy>M.Baak</cp:lastModifiedBy>
  <dcterms:modified xsi:type="dcterms:W3CDTF">2005-11-21T14:15:46Z</dcterms:modified>
  <cp:revision>18</cp:revision>
  <dc:subject/>
  <dc:title>Ashridge-Missiemodel</dc:title>
</cp:coreProperties>
</file>