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400752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5112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604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8700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604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8700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981000"/>
            <a:ext cx="7543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112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akback"/>
          <p:cNvPicPr/>
          <p:nvPr/>
        </p:nvPicPr>
        <p:blipFill>
          <a:blip r:embed="rId2"/>
          <a:stretch/>
        </p:blipFill>
        <p:spPr>
          <a:xfrm>
            <a:off x="0" y="2556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659c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659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31659c"/>
                </a:solidFill>
                <a:latin typeface="Tahoma"/>
              </a:defRPr>
            </a:lvl1pPr>
          </a:lstStyle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547120" y="1031760"/>
            <a:ext cx="488880" cy="1676520"/>
          </a:xfrm>
          <a:prstGeom prst="rect">
            <a:avLst/>
          </a:prstGeom>
          <a:ln w="0">
            <a:noFill/>
          </a:ln>
        </p:spPr>
      </p:pic>
      <p:sp>
        <p:nvSpPr>
          <p:cNvPr id="5" name="Line 7"/>
          <p:cNvSpPr/>
          <p:nvPr/>
        </p:nvSpPr>
        <p:spPr>
          <a:xfrm flipV="1">
            <a:off x="8872560" y="2565360"/>
            <a:ext cx="1440" cy="3672000"/>
          </a:xfrm>
          <a:prstGeom prst="line">
            <a:avLst/>
          </a:prstGeom>
          <a:ln w="9360">
            <a:solidFill>
              <a:srgbClr val="884b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Line 8"/>
          <p:cNvSpPr/>
          <p:nvPr/>
        </p:nvSpPr>
        <p:spPr>
          <a:xfrm flipH="1">
            <a:off x="685440" y="6248520"/>
            <a:ext cx="7543800" cy="0"/>
          </a:xfrm>
          <a:prstGeom prst="line">
            <a:avLst/>
          </a:prstGeom>
          <a:ln w="57240">
            <a:solidFill>
              <a:srgbClr val="7797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9151920" cy="685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0" y="676440"/>
            <a:ext cx="9144000" cy="160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voettekst 3"/>
          <p:cNvSpPr/>
          <p:nvPr/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Het vijfkrachten- </a:t>
            </a:r>
            <a:br>
              <a:rPr sz="3600"/>
            </a:b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model van Porter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5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tIns="262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Fig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86320" y="1628640"/>
            <a:ext cx="2857680" cy="38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jdelijke aanduiding voor voettekst 3"/>
          <p:cNvSpPr/>
          <p:nvPr/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Vijfkrachtenmodel van Porter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68360" y="1800360"/>
            <a:ext cx="77040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voettekst 3"/>
          <p:cNvSpPr/>
          <p:nvPr/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Bedreiging van toetreders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24000" y="2038320"/>
            <a:ext cx="83516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voettekst 3"/>
          <p:cNvSpPr/>
          <p:nvPr/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Kracht van afnemers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50920" y="1943280"/>
            <a:ext cx="8353440" cy="39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jdelijke aanduiding voor voettekst 3"/>
          <p:cNvSpPr/>
          <p:nvPr/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Kracht van leveranciers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49636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voettekst 3"/>
          <p:cNvSpPr/>
          <p:nvPr/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Kracht van substituten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4250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voettekst 3"/>
          <p:cNvSpPr/>
          <p:nvPr/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Kracht van concurrentie-intensiteit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4250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2:11:30Z</dcterms:created>
  <dc:creator>Y.Mandour</dc:creator>
  <dc:description/>
  <dc:language>en-US</dc:language>
  <cp:lastModifiedBy>Yousri Mandour</cp:lastModifiedBy>
  <dcterms:modified xsi:type="dcterms:W3CDTF">2012-10-10T15:12:02Z</dcterms:modified>
  <cp:revision>17</cp:revision>
  <dc:subject/>
  <dc:title>Ashridge-Missiemodel</dc:title>
</cp:coreProperties>
</file>